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ready.wav" ContentType="audio/x-wav"/>
  <Override PartName="/ppt/media/image1.jpeg" ContentType="image/jpeg"/>
  <Override PartName="/ppt/media/xmbell.wav" ContentType="audio/x-wav"/>
  <Override PartName="/ppt/media/LASER.WAV" ContentType="audio/x-wav"/>
  <Override PartName="/ppt/media/image2.wmf" ContentType="image/x-wmf"/>
  <Override PartName="/ppt/media/bird2.wav" ContentType="audio/x-wav"/>
  <Override PartName="/ppt/media/oops.wav" ContentType="audio/x-wav"/>
  <Override PartName="/ppt/media/zoomin.wav" ContentType="audio/x-wav"/>
  <Override PartName="/ppt/media/image3.png" ContentType="image/png"/>
  <Override PartName="/ppt/media/airplane.wav" ContentType="audio/x-wav"/>
  <Override PartName="/ppt/media/glass1.wav" ContentType="audio/x-wav"/>
  <Override PartName="/ppt/media/sneeze.wav" ContentType="audio/x-wav"/>
  <Override PartName="/ppt/media/urgent.wav" ContentType="audio/x-wav"/>
  <Override PartName="/ppt/media/bird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E5D-2FDD-4F2A-B7DA-8AC195E3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445-51FE-4734-B7E7-97AD55B89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E7E-B1E0-4BFB-B2EC-D6C92B82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C5D-2082-45FB-848B-466A02E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12A-20DD-46F5-B95E-507BD248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603-125D-4D14-8EBB-B9AFB8E3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126-8161-43BC-ABBD-72A748E1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793-145C-4090-B83C-01E22317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7C6-FB0F-46E9-BEF1-0CE972F2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E80-3804-4227-B9D5-72594A9C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C753-886F-4761-ACB8-DC6C699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1153-276D-4134-A8E2-47E4141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7AC-1C5E-4437-BB9F-F93E52E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254-7B62-49E7-9869-D899A8DE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5456-F577-4B56-A6D4-03AC42A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7231-2298-43C8-AAE3-9149C78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D40-63C6-4A0D-8B77-88AFFF8C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249F-DB3D-4E74-8391-7F1444D4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B23D-AC17-4EEF-87FF-F6C5595C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B53-3D45-4B0C-95A9-6EA59CAF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5EB-D484-4FBF-B5CD-A4B5E6AA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A86-8EC6-4A18-BAC0-C95E6EA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CAF-FD05-4CA3-AA7B-6EA7BB9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5EC-7F89-4936-A3BC-3AB65C6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B11-EFFD-46F0-AD11-A46A58A7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A77-AA89-41AB-BFDE-0AB58F7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F6FE-F6A1-4960-99AD-B45E3FE31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94C-6135-4CF3-AE69-FEE5F4E6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airplane.wav"/><Relationship Id="rId4" Type="http://schemas.openxmlformats.org/officeDocument/2006/relationships/audio" Target="../media/zoomin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glass1.wav" TargetMode="External"/><Relationship Id="rId3" Type="http://schemas.microsoft.com/office/2007/relationships/media" Target="file:///tmp/home/.config/libreoffice/4/user/gallery/glass1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1.wav"/><Relationship Id="rId3" Type="http://schemas.openxmlformats.org/officeDocument/2006/relationships/audio" Target="../media/sneez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mbell.wav"/><Relationship Id="rId3" Type="http://schemas.openxmlformats.org/officeDocument/2006/relationships/audio" Target="../media/urgent.wav"/><Relationship Id="rId4" Type="http://schemas.openxmlformats.org/officeDocument/2006/relationships/audio" Target="../media/urgent.wav"/><Relationship Id="rId5" Type="http://schemas.openxmlformats.org/officeDocument/2006/relationships/audio" Target="../media/urgent.wav"/><Relationship Id="rId6" Type="http://schemas.openxmlformats.org/officeDocument/2006/relationships/audio" Target="../media/urgent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1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ird2.wav"/><Relationship Id="rId3" Type="http://schemas.openxmlformats.org/officeDocument/2006/relationships/audio" Target="../media/bird1.wav"/><Relationship Id="rId4" Type="http://schemas.openxmlformats.org/officeDocument/2006/relationships/audio" Target="../media/bird1.wav"/><Relationship Id="rId5" Type="http://schemas.openxmlformats.org/officeDocument/2006/relationships/audio" Target="../media/bird1.wav"/><Relationship Id="rId6" Type="http://schemas.openxmlformats.org/officeDocument/2006/relationships/audio" Target="../media/bird1.wav"/><Relationship Id="rId7" Type="http://schemas.openxmlformats.org/officeDocument/2006/relationships/audio" Target="../media/bird1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ops.wav"/><Relationship Id="rId3" Type="http://schemas.openxmlformats.org/officeDocument/2006/relationships/audio" Target="../media/ready.wav"/><Relationship Id="rId4" Type="http://schemas.openxmlformats.org/officeDocument/2006/relationships/audio" Target="../media/ready.wav"/><Relationship Id="rId5" Type="http://schemas.openxmlformats.org/officeDocument/2006/relationships/audio" Target="../media/ready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oom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160020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475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  <p:seq>
              <p:cTn id="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with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d that describes a verb is an ADVERB. Some adverbs answer the question “how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g barked LOU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ger waits PATI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irl sits QUIE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t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nd Wh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verbs answer the question “Wher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beautiful pictures IN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verbs answer the question “Wh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avel to the beach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xm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rg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wo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dverb ends in -ly,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wo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stead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dverbs, use the en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w r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the sn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 That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hree or mor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dverb ends in -ly,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man sa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beautifu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dverbs, use the en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ed the hard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 the ins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r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r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ords That Mean “N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speakers do not use two words that mean no (not, none, nobody, never, etc…) in the sam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ng: I d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named 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: I don’t know anyone named 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a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8:43:56Z</dcterms:created>
  <dc:creator>Salem City</dc:creator>
  <dc:description/>
  <dc:language>en-US</dc:language>
  <cp:lastModifiedBy>teacher</cp:lastModifiedBy>
  <cp:lastPrinted>2003-04-04T14:55:45Z</cp:lastPrinted>
  <dcterms:modified xsi:type="dcterms:W3CDTF">2011-01-19T00:27:12Z</dcterms:modified>
  <cp:revision>6</cp:revision>
  <dc:subject/>
  <dc:title>ADVERBS</dc:title>
</cp:coreProperties>
</file>